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89B-83D7-4FE5-84F3-1EF3E6AC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F41-9A60-4B9F-8380-43FF85D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0EA-9F3E-4233-9A2D-5D7E2BB8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70F-F101-4C4F-BC9A-F3410E1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D00-F676-496F-B7D2-5867AC3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524-520C-413E-9AF0-5BB0456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019-C17F-4058-85F7-73001B5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8C-4A02-409F-87EF-D3E08B6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83F-509F-4D5C-AE17-4A55C688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DFD-1F0B-4F6A-BF5B-960A1D3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4D9-2BA4-4B4F-B4F1-894A8DC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857-C0E6-4AE0-908D-E46DDE7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3D2-AEB2-43AF-9988-081A53D1B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95280"/>
            <a:ext cx="533520" cy="6858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85800"/>
              <a:gd name="textAreaBottom" fmla="*/ 659880 h 685800"/>
            </a:gdLst>
            <a:ahLst/>
            <a:rect l="textAreaLeft" t="textAreaTop" r="textAreaRight" b="textAreaBottom"/>
            <a:pathLst>
              <a:path w="21600" h="27761">
                <a:moveTo>
                  <a:pt x="3600" y="0"/>
                </a:moveTo>
                <a:arcTo wR="3600" hR="3600" stAng="16200000" swAng="-5400000"/>
                <a:lnTo>
                  <a:pt x="0" y="24161"/>
                </a:lnTo>
                <a:arcTo wR="3600" hR="3600" stAng="10800000" swAng="-5400000"/>
                <a:lnTo>
                  <a:pt x="18000" y="277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4143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89548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33520"/>
            <a:ext cx="83844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33520"/>
            <a:ext cx="83808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30481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3429000"/>
            <a:ext cx="381240" cy="7621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159">
                <a:moveTo>
                  <a:pt x="3600" y="0"/>
                </a:moveTo>
                <a:arcTo wR="3600" hR="3600" stAng="16200000" swAng="-5400000"/>
                <a:lnTo>
                  <a:pt x="0" y="39559"/>
                </a:lnTo>
                <a:arcTo wR="3600" hR="3600" stAng="10800000" swAng="-5400000"/>
                <a:lnTo>
                  <a:pt x="18000" y="431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533412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80060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819520"/>
            <a:ext cx="76176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048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505320"/>
            <a:ext cx="990720" cy="30456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6858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144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371600"/>
            <a:ext cx="99036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5146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7432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200400"/>
            <a:ext cx="99072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58128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629400" y="32000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9640" y="34290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radio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105160" y="1905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200" y="2209680"/>
            <a:ext cx="246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 direct fiber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hronous data 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57240" y="1066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5920" y="655560"/>
            <a:ext cx="95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3809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4920" y="411480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Are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52480" y="28951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7640" y="269712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004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9680" y="182880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up 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9120" y="20570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960" y="22096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080" y="8380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720" y="3962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49831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4440" y="3505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8120" y="12952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7400" y="3230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66800" y="87156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2520" y="274320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e 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1295640" cy="1523880"/>
          </a:xfrm>
          <a:prstGeom prst="cube">
            <a:avLst>
              <a:gd name="adj" fmla="val 1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9440" y="506268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66880" y="3580920"/>
            <a:ext cx="15264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5720" y="399240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5334120"/>
            <a:ext cx="6477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3341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3341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581280"/>
            <a:ext cx="6477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7120" y="3611520"/>
            <a:ext cx="51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entralized  Addressing Sche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UID based, independently assigned and manag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11480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7880" y="4114800"/>
            <a:ext cx="41734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Routing and Resolving Lay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 late as possible – on demand - binding of address to physical transport endpoin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d search for new binding and routing information on every single routing failu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72428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4800600"/>
            <a:ext cx="4410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network transport abst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mmon driver interface to all of the heterogeneous transport supported by the P2P netwo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27432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9520" y="2787480"/>
            <a:ext cx="42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Object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ers, logical communication “socket like” endpoints known as pipes,  grouping of peer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availability services, et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051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90512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90512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2071800"/>
            <a:ext cx="5427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y, Communications and Other Service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rvices available to other peers, running on one or more peers concurrent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0960" y="5486400"/>
            <a:ext cx="30182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terogeneous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ifferent physical transport, software, and hardware platfor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10666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4640" y="1233360"/>
            <a:ext cx="4816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P Appl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ocused on application logic, with most of the P2P network handling provided by lower level subst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19Z</dcterms:created>
  <dc:creator>VC</dc:creator>
  <dc:description/>
  <dc:language>en-US</dc:language>
  <cp:lastModifiedBy>VC</cp:lastModifiedBy>
  <dcterms:modified xsi:type="dcterms:W3CDTF">2002-10-15T14:16:26Z</dcterms:modified>
  <cp:revision>23</cp:revision>
  <dc:subject/>
  <dc:title>PowerPoint Presentation</dc:title>
</cp:coreProperties>
</file>